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ADF-20A1-4993-A656-705F181D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93A3-1C4A-4283-ADF6-FC28E414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8CF-A9F0-4B16-AE52-EAD72882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DE7-0B6E-4315-8653-2BB1EF01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6BB-044C-4164-BAD6-644E24B7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C075-4DBB-42F0-99E5-0F54CDBB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DC8-4F1A-4BD5-9FA5-72733173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DFB-2EA3-48C7-B1A0-70FD0562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6AFE-BA12-4A67-B2EA-E02E3EC5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053-4668-43AB-A2A5-633521DA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AF0-2C5E-439A-896B-D9271B7C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8B6-0317-4184-85C2-C4C7C5B9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75D6-1EFC-4315-AC7C-355076630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549360"/>
            <a:ext cx="777384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مملكة العربية السعودية </a:t>
            </a:r>
            <a:br>
              <a:rPr sz="3200"/>
            </a:b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إدارة التربية والتعليم بمحافظة ........... </a:t>
            </a:r>
            <a:br>
              <a:rPr sz="3200"/>
            </a:b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مدرسة  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515772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99"/>
                </a:solidFill>
                <a:latin typeface="Arial"/>
              </a:rPr>
              <a:t>تنفيذ مركز مصادر التعل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2565360"/>
            <a:ext cx="78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MCS Jeddah S_U shadow."/>
              </a:rPr>
              <a:t>مرحبا بكم في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MCS Jeddah S_U shadow."/>
              <a:ea typeface="MCS Jeddah S_U shadow.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MCS Jeddah S_U shadow."/>
              </a:rPr>
              <a:t>مسابقة ( ملتقى الضاد)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MCS Jeddah S_U shadow."/>
              <a:ea typeface="MCS Jeddah S_U shadow.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51640" y="333360"/>
            <a:ext cx="1368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0480"/>
            <a:ext cx="777384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- هو بخار الماء الكثيف</a:t>
            </a:r>
            <a:br>
              <a:rPr sz="6000"/>
            </a:b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و يغشى الأرض كالدخان ؟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3300"/>
                </a:solidFill>
                <a:latin typeface="Arial"/>
              </a:rPr>
              <a:t>الضبا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هي وظيفة القلب الأساسية في الجسم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3300"/>
                </a:solidFill>
                <a:latin typeface="Arial"/>
              </a:rPr>
              <a:t>ضــخ الـدم</a:t>
            </a:r>
            <a:r>
              <a:rPr b="0" lang="ar-SA" sz="1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ما هي السورة التي سميت باسم وقت من أوقات الزمن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حـــــ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العملية الأساسية في الحساب و الجبر ؟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ـــــــــر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ينفذ من الاجسـام الشفافة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ـــــــو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عظام الصدر تسمى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لــــو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6:22:47Z</dcterms:created>
  <dc:creator>AAAAAA</dc:creator>
  <dc:description/>
  <dc:language>en-US</dc:language>
  <cp:lastModifiedBy>pcw_mos_24-11-07</cp:lastModifiedBy>
  <dcterms:modified xsi:type="dcterms:W3CDTF">2009-02-09T16:16:33Z</dcterms:modified>
  <cp:revision>4</cp:revision>
  <dc:subject/>
  <dc:title>1- هو بخار الماء الكثيف  و يغشى الأرض كالدخان ؟ </dc:title>
</cp:coreProperties>
</file>